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D33A4FC-5157-450D-B969-F411A1921C8F}"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5360714-A46F-452F-94A0-A18E2CC8806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D71D182-6859-47B7-B278-3C9C4C22F53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5744573-84AC-4972-AFBA-2E844910AA9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FC91343-81E7-4210-A291-1C9536D9B22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9CCD175-9CE6-45DC-94B4-F623D357ABB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B608CC8-AA08-450C-B993-54DB0C329FB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CEE2E2C-806D-407F-B5A9-FC66323F355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AC2B139-775E-47C2-B51C-44884CBC1E0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C7B948C-E4C5-4DE9-8C50-BA8AC5DA7A4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328CC6F-4FEE-4BCD-8418-8A28630710C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E487AC7-0EAE-4895-8C36-2A514C97FF1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21028B6-3429-4FA9-957F-0F4422CDF5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064F189-A2AF-43D0-9746-E2103ECF4EB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5C54225-EDBA-41EB-BC7D-3041FAEFC92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D1D3E23-DF80-41CA-8E7C-57BD13EF417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C36FC7D-A5C5-437D-90B8-124406262F7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D3C6325-6FA5-487D-887B-781B2563E7F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436F298-3A8B-43A8-A548-392C914DC86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0C3A17D-B014-44EF-A815-BF7A3224C21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1F836FB-23FE-406F-A72A-3D0D3AEB6B6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050CE86-DB76-4CEE-A0B5-0937E47DDDB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39012A2-BFF7-4A56-8039-CE55887D7FC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0EB6116-6705-44F1-A99D-6990DA17595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340872D-5118-492C-908A-1574A89E33F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9B04B35-C4F0-4C94-A728-91BD37E1EB6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FE978A9-CE0C-4495-9F15-E0F23E04A8C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A3B45A5-D803-4E33-A8F6-EC634AEDE44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CDA5007-1DB1-4B8D-ABE0-8485638D756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5078E92-5129-4155-A356-594E8AAA03D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FEDAE9A-646A-4DD3-9BBF-77767CF8814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217CF6E-32E6-4CB2-8D58-D8EA38B0D36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F964F1-EE3B-4F9B-8AED-9E38BF9084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E233CD5-B2FC-4BC7-8323-0AF7F232AB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49B2A9-26B0-459B-A656-F4E498D928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7C5CA-E54D-4614-96FF-F63C95EEBA35}"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C1B1B-07CC-4EF9-9139-F297AA407408}"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31292DE6-7D23-4EDB-ABD7-5CBDB5BBEE8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BD2E776-1816-405B-8ED7-BF0FC1888E17}"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C1F3559-9C82-4EDF-A08B-4B7958314C7A}"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F120996-675B-4EAA-92EA-A095A4196D49}"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60724C1-D424-4B1A-8723-FF4058FF256E}"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C3C5559-B048-4104-AA46-1ED84D6897AC}"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16C1736-54FD-4A42-8503-D9EF3527972F}"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4AF1452-A249-4850-B956-E437B1B3F800}"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65D42EE-4CE9-488E-9337-5FB7B61C49D5}"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C412753-CC2C-4345-A5FE-C616E0A289FC}"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257D835-9F51-4DC9-86A1-FDDEC3632286}"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87C8CCE-E657-48AA-B63C-F58CA03A41D9}"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7BFB816-15E7-44DD-B3C9-F805D850BE3B}"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9C556F0-AC05-4FA6-868D-2A28A42F6FE0}"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C07EF1B-02AF-4077-8F60-6C3BFB26F890}"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237EFDF-744C-423D-B1AF-0000DA3CDE67}"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A619946-F55D-43D6-81CA-7BC47385C128}"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FFAC009-2058-4519-878F-1AFF27A51C23}"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F274AF11-F122-41FD-95D4-52521BC730FD}"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C1230286-DC53-46AF-B9BF-FC69C717DC7E}"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BABE01B-147D-4D09-81CD-CE81D71114EE}"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FAAE244-A30E-4F44-82B4-BB1426791E5B}"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38EBDB7-6882-44A5-A76F-F757464A2F1B}"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F0DA662-05A8-4591-B701-20A847E75E16}"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0C2BDF1-BBCA-416A-B001-1635A4CF871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019A6FB-A091-4D8C-BD4E-02208934D6A5}"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B35447C-279E-4162-91DD-4150A47A2AC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661F646-B443-4919-9FEF-7908D3D86653}"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2760DCDB-2F0E-4D94-A4E4-F19E8809F9C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213C581-3482-468C-AC16-71D5E58E956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FB9C1D9-F1C8-46BB-ABA4-A4E50D8F706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676FC29-4DA3-4602-8ADC-CB1BE48DE7D0}"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65D3A51-39EC-47B5-86C7-2AF5520BEEB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423ECD9-92D6-4C70-8FD2-3DC67E9CE78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4B24DF5-346E-41B7-8405-608240F04F2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4371061-05CC-4884-BBEB-061E3E168C99}"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F408C11-30B4-42B8-AF8D-17D2EDDE7A2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06D410A-CC4F-455B-A3AF-EFC696E787A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BBBBE97-256F-4861-8961-F38E7D4BC6C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A7D84FC-933F-4FEB-A827-3A1D6DA8B218}"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0EDC9AE-5BE3-4C40-A8C5-B531C52E8B4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1DDD86E-FD6F-4ADD-90EF-1AAA41D2844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D32AEC4-E184-493D-8436-DBA730A854CB}"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FB28272-F72A-4AE8-8A70-EF7CF7AFD04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03FA9CF-6F0B-4777-94BE-063EA0459FF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8F44EB2-BC25-4CE9-8A0D-4F03C3220F6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629F3A8-6775-4CA4-ACD5-A884BAD822A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42E901F-B055-4671-897E-20E7452FCFA0}"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30C2AE3-236A-4193-A046-6BF8ADE87222}"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D08C335-35A6-4E56-8B89-B6418D1CCF7B}"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19E4DD8-69F6-464A-8415-BAE89BA263A8}"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68A721B-271B-4BF8-ABBD-075A2CE270B1}"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53106D8-2C9A-423F-A9EC-B4A63BDEB978}"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A77BE03-6821-4B56-8260-400E9BD4D46E}"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47E0441-B772-43A1-8A7B-DD4FBDFD95C5}"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BCC2E1A-2AA3-4667-A5A5-84604F8008E1}"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C133435-86AD-457A-BA91-4AC96ECBCD85}"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4EE8432-734C-45E3-B9BA-F1C0EE312535}"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9A0A317-BFF3-44EE-8AA0-C42AE2E96F63}"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E06C503-54A5-47F6-8B45-4F4419B029AF}"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613F2A6-D576-44CB-AB5E-9ADD7250306E}"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0AE0D7F-11B9-4D5A-BE31-0848BB7B7D14}"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CDB87A4-826B-48C2-8DB3-5E5C8695A485}"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8A8ACC7-FD91-477B-9023-48A49695BBB5}"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BD97E90-58E5-4DBC-97F0-BD6C3B274799}"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572DAD6-4EBF-448F-877E-3C58E26A430F}"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2A6D401-702F-4A32-9AD0-8BBA27E8FC2A}"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AFAC6EE-D0CD-49CF-A18D-ED74F520A0D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AE2828A-7122-4912-A290-5F7536F1FC46}"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B2847A5-5DEA-4E59-8969-74218E58FA20}"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5197D8F-C1B2-4D69-AAF9-C7D42630A163}"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C41A385-02E4-4E17-884F-5756111CCAE2}"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E88CE3C-A873-4F50-98CF-78032FCE424B}"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C4AA1F3-9D29-4074-BDF6-56C4A6EBC95D}"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38A83B6-72CA-4D9F-B78C-6577170D2620}"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2C19D03-038B-4517-811B-CE061AC729B5}"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805AE52-AE72-494F-B2A1-121F71C7BC0E}"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F3CE888-FC08-4AD3-89F8-15A2F2DB7469}"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2AD7FA2-502A-468A-8103-8425D25C462D}"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5CFFC2E-B2FC-4DBA-8BA7-43C3575C37E6}"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3F2268F-4041-4D1B-A9EF-F51C99FB0A59}"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DDD4FC5-6380-4B3C-B871-164F498A6697}"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BEF2BC5-EF79-4DEE-8FD8-8C007C6310AE}"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52B57EA-579F-4B08-AFF4-537C2E40681C}"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372EB94-9089-4FDC-9D77-B5D8DEC5693D}"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C88DA06-A727-4573-A7FF-7278088C5068}"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F3702C8-C089-46AA-8E61-3119258491C4}"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1EBA9DE-4C83-45B4-88A5-C245EA663B52}"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1AB09BC-29C9-4F7C-A343-6EA22FC2F942}"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C5E747D-CF22-42F1-B8B3-AC357315BDC3}"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E182DEB-6500-4A37-9DC8-898A3414CF7B}"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80C91BD-A4B7-44B9-9429-D7A32958C49A}"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5806F03-76D6-49B0-B2EB-A045399CD6E9}"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28CF7E2-5C7D-46DA-9CC8-71B44CB20983}"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C05BD83-9C4F-4D92-BBC6-8BCCCE277F78}"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53F0EC7-7F0A-4E7D-BB8A-97FFF7F07BC8}"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49D14F8-E9B2-4AC8-A04F-4F5DF8DE7D91}"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E4098780-B541-44E9-BCB3-0E3227D9D97E}"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EA97558-673E-4B45-AE46-E7A46E09C319}"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11149A2-8617-44DE-9C13-7519AFB672DE}"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7FB6A9F-9770-4288-B0FB-09886CD22EDF}"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7FD6F44-E39D-4EEB-94A3-9CB1F5366649}"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85DC831-BBDF-4AA5-AEFD-242EF06B3F87}"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C76A0A6-2082-46EB-94A6-8301FEAF4B47}"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E33D0F4-7075-44A4-AA8C-71A61A0BC387}"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1AAF0F2-7082-4274-AF78-5415BC79B34B}"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2D6959C-AD91-4EB7-9B55-1C0B4919A1AB}"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B3A52C6-54E8-494D-B619-D2E01E2D1DAD}"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52580C1-08AC-47DE-AE48-A7E3B2FF0315}"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6327694B-92AD-4AB4-A813-3396B69A4791}"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7F2C8D5-58EF-45AA-B8AA-42419334EB70}"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9254247-65F0-4E75-8849-11559294AE15}"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1BC9E01-9C27-48C6-A8AE-9A2415305B1C}"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8941351-F833-4C12-B399-BB59416CE879}"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D1BECF5-548C-4DCE-B76B-19F31BF2A93C}"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31F4D06-265E-4EEF-8A5E-89005008C2D0}"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76BE85D-98D4-42A4-9A75-B25BA23F7038}"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0A68BD0-361A-482C-97D8-7F2A5C86311B}"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301C0D5-2597-4ABE-92CB-4C347F0B4CB5}"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40A7DAF-6FE1-4839-91B4-0055B4C6F77D}"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EEF29E3-F1F8-4C8B-8483-6F302D4F3416}"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