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997944"/>
        <c:axId val="87940538"/>
      </c:barChart>
      <c:catAx>
        <c:axId val="469979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940538"/>
        <c:crosses val="autoZero"/>
        <c:auto val="1"/>
        <c:lblAlgn val="ctr"/>
        <c:lblOffset val="100"/>
        <c:noMultiLvlLbl val="0"/>
      </c:catAx>
      <c:valAx>
        <c:axId val="879405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9979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CD1D-555A-4452-ADD6-901837B1C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5D3E-3487-4549-9100-2FAD03B0E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6F48-9EDB-43B5-80B5-EB91B707F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A2F4-FD95-44C5-84D0-8576299FA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B705-B2FB-43C9-A0AA-45F50ED14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4935-8E86-4758-A487-C139192BF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103C-9F6C-4665-BD4B-C1D7FA116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0B48-9FC4-436F-B420-750B48F1C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BDAE-4EC9-4DEA-B6AD-1CDC5D2E5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FA60-3A9E-411B-B329-739A67760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C32E-FCD6-41D5-9972-07047F702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A7E7-4FFA-462F-BAA7-A766A5035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629F49-D90A-4AC3-AEF2-170F833176D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