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B9FC398-F1AF-4F05-989F-378A4666EC2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0B811A5-7BC6-4BF2-8F81-88EC1D4F383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D42E7AE-3DDE-4B42-A26E-5B9535CAAB6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089BCD9-BC5A-4E0F-9B28-3D9621A124E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5A4A321-D66B-4565-979C-4A69FB57B4E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79E2B2D-24E5-4C4C-9E70-47D4E4F6FF7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36C897B-8596-451D-ACA1-C0A7F952641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17A9CC5-C511-413C-B80F-8A69027F896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E29CB54-BA42-4531-A736-BB8B8A6A2BD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42E84E6-D439-4BA2-BE71-BE80500FFB7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D31600C-6E60-4B82-A876-6CA4CE5816D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88B9BC9-4591-463C-92C7-9A1511B061A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2CA20FA-3244-42C8-A38E-299D96B37A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E41CABA-A963-404F-81EC-A8F7898A74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6597F7E-C4C3-4FA4-9506-A768A01A81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095BBA6-9997-4E91-A230-15C0987BC2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37A7B15-9CB2-4200-9B40-A41CCA3F966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A86964A-4F85-4752-903C-D37BCC280E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0ED0AC7-A9E7-47A2-9FCC-884B52CBB4D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53CD8CC-7569-4453-BDF2-87695348E04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104BCD0-CE8D-4B90-8CBA-9A1E7379434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D7E5D37-1361-4B05-A470-77167F0A57B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61B435B-5F9D-499C-9799-65ED23FE47A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ACBC76-9B52-4327-B26F-AEE4404BE9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D920998-938F-42C8-8ED9-074D723913B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DC74C98-213D-449E-A166-78F52365519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4721F62-0737-4D36-982D-EC907DAB58E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0AAA64A-E684-4E60-9093-21B0D1481D7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DD5AA93-A3D2-4B2D-9B01-2D28442082F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A41DF70-90FD-42A7-AE46-C12B68EF3C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0BCE7D8-80F8-4B03-BAB4-7387D12A51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268A77-2811-40E7-AF53-3D9AC6CFFB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932D59-3A4A-4074-A115-765C3EDC57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622004-0EBD-46CC-8D04-2FB839B63D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5ED335-42E5-4171-9987-207D47CCD3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75648C-F32D-4CFD-A5BF-7235CE4660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EBE29-F6DE-477A-A001-5E0B5C674969}"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2E3B1-7314-4091-83B7-50F3C3006E7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86D52F1-6860-464C-9C27-4A62DE019B47}"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3129EA1-EFD2-434D-9642-805B76EDF190}"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51B325A-F69C-4F95-A579-580E14D29CEC}"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FF97578-D2BE-449A-ADF6-EF5FA875BBA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9604698-2B09-42CD-B233-92262D8216D0}"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133E1FD-1B2C-4C92-93A0-A8786CAA04BF}"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304BAD9-BB95-42DF-9111-8894AF3EE74C}"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8F34546-7F49-4441-869E-00C7842A21B8}"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F933FD0-513D-4203-9BA0-72ED33EB3587}"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2446942-3E51-498E-AF11-9DC52580C58F}"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76733D4-CA7D-4ACF-91D0-7C773B6C7EBF}"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3E54D7EC-EB12-4392-9D9F-4FFAC81F6814}"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9CA2F00-37B2-4A88-B932-C73FE540CE48}"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4782368-0150-4910-8FF5-A0AB4E1D7B15}"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5FDA701-DA57-4C0B-8C25-6FD69E8B2FC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00A2EB6-FF69-4092-92F1-C30456EE5A03}"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256D696-3933-4E94-95A2-E71DEB6530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9843DFE-21D0-4440-ADE1-8D03234900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D188C7B-FD31-4DEE-9A42-7C6338FA88D5}"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F3B55D4-3591-46DD-B381-1D0E9C4EC7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3696064-FADA-42A0-955B-054E556404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6C6C340-CB56-4EA0-B946-965222A62DDE}"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82EDCA5-E004-4B8F-B96C-C1F11790EC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DCEAF47-ABFB-45AB-8F4B-7C609BA460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A685582-4B65-4E82-AD44-4DB339F5DC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F2A15E6-BAB8-45F8-B8DF-F05727141A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CD2C1AD-8950-49CB-90A1-D7C8181B170E}"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88CD25E-632C-4702-9279-089BCCDCBD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9D06CF7-0793-4273-8704-DEA5D0E32A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613569C-4E33-4727-9AE1-C6E16B2C51C1}"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D6A9604-C079-4B81-9845-D1F5DD75B72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F9B9764-85F1-4EDF-88D3-8FFD36E3579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8A49B8A-74F7-4BD2-AAAE-F34D46B333D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01D65F1-7DA7-4DA7-A7A0-A1BF0A652A9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DC8AAAC-36D8-4844-8032-62B858FD6A2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084C240-DC62-427B-B14B-DA39509665C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DC9733E-14A0-4B2B-834C-4817EEFC6BB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8DFE9A5-27DA-4396-8947-5850A0C33FC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2D66FCD-5E4C-48B5-98A2-EE7A4F6C398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DFA05F5-C055-47C4-82E6-CB15A045A908}"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01B1083-1020-4160-813E-33BFCD2FB70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6513D28-6D78-4564-8AF2-9788444F9C2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1B9645F-A9F6-4200-9C0A-D874C54B11AB}"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03C10B5-D4E4-4478-A79E-0FB91BB9379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328796-5D7E-4E71-AB7E-52DBA5E808F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4D8E11D-0C49-448D-855B-85F6A4DC87C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97C197-0EB5-4F5A-82AB-34BF77D8147D}"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E4CD1F4-CD4B-450D-B0FB-B561CFF7FA8A}"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4213D0D-5139-4E13-9BE9-A12E6F13A43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B58B88D-48A3-4814-970B-E0714E874B8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9C3B816-4AEC-4CC8-B562-0D4A3D347C91}"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0A1BA8C-2810-4BA7-9A20-7B5D32DB416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983D63F-6813-4F47-AB06-80864F1366AB}"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C513068-8DBA-459C-88C3-F262193D0CB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FD459E0-BCA0-4A69-8F22-D927DD2A6E95}"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6286D38-2EFE-49CB-8EBB-DD447148C64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B493ED2-A4A2-44D1-AEDE-47EE2982062D}"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63DFDD1-E7F1-4B63-BED1-F20488727E96}"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29EE694-4ADE-480A-B1C4-72F34044B170}"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405FDAA-A2B6-4F90-B4D8-7E488F0D38BD}"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54A9A13-75F9-40E4-A56E-D11115C10177}"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FF38340-83E5-4C51-A499-E7E6E9114731}"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432796D-F419-4221-8282-93BEFB41A209}"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554785B-1A35-4EFF-A160-C0C6AA73D1B9}"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4916424-85A1-4859-9565-E97B90E5D0C2}"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E8324B2-A7E0-4221-8EFD-BD2E7465CDDD}"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8B78D6B-AA09-41AA-9821-B75F3D18E026}"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E72339B-D69E-4A74-A65A-A2B57D0DD062}"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6E62040-C237-4C3C-9A40-7E70C088BBCF}"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A813FBC-AAFF-45BE-BCAF-96F8148450EE}"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43D0B4-6352-4030-948B-28070DB86B5D}"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13E4A41-B194-4904-BF30-C800ED52E2A3}"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6568DB4-66BE-4C59-B34E-22342D7C7B09}"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185020D-199F-4BB5-B381-A16F2019A6AD}"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A4F55EC-AF03-4531-8062-BD772A8770CA}"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19903D6-381A-4A89-997B-581BAC9D9BFA}"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4F5B02E-9FB7-4271-B0ED-0ECC83F0AA07}"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A29E7E8-4DA2-47AE-BBAC-07578D94ED6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03B348A-8ACB-4565-B8A5-0F0C07AAE56F}"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FD6F427-AE52-49E9-A417-F1E76DC8593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356D51C-1961-49AD-A21D-1B86ECC0BB26}"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D434286-C75F-4DCB-A751-C7346CFCC83C}"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57ED6FB-22BB-4592-80E6-F6B821E64633}"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8B76245-AF5C-44C1-9A7F-3F59CA95ABBA}"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AF522F0-60D3-4B71-B604-5149FF2829D1}"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99F3676-FCC6-4F8C-AE34-AF203F6DC287}"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A1B1772-D5EF-4332-896B-29ED8583D30A}"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7D93C48-8295-4325-A6F5-8E4DE52D58BD}"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4FD4A77-D3C9-4EB8-BDE7-908B816CCEBD}"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CB4AB65-DF21-4D4D-A89B-C21DDC7629DE}"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8C57C3B-A77B-43C7-A144-B8FD84D4900D}"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DE22B17-78B2-4771-BED9-E26A8C8A7911}"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D27EA5B-2D4A-4600-B73E-16CE9E12104A}"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64110D9-2874-4307-BFCE-151EDC82F982}"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8DC9E6F-2A3E-4E67-896C-3F54DADB189F}"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9B8CEBF-A015-4DBF-8E58-F326C494C92D}"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78E524B-B0AF-4838-8163-1A52195478D4}"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6DF55168-CE86-4508-902B-4CF5FAF41D17}"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78E87A6-9869-47D0-B100-228D50702EC1}"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CDD9ECE-53D7-49E2-ABC5-27C460F266CA}"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A95EE28-14F8-4B83-936A-6FDC4AE18608}"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967B17A-AEB0-42B4-B728-31741B549EC2}"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3FCAE16-ECFF-4F80-8926-8EB116AAF984}"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8B6959-A823-4FC2-8955-E58F8E7FAC44}"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F169716-ABF8-4587-8996-88C507586F9E}"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1FC0589-6545-4E3E-BE46-84BF7FB92F7B}"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4F8869-3AA1-4711-8410-0EA24D0C0E11}"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F60725B-B238-4936-9ED0-02795E92F859}"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C43AB82-4BCF-4055-9A93-2E1E8687B790}"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F3C6650-0926-4EBA-A531-100BC9FCB430}"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33B2EA9-B31A-471D-932A-02964D1BD613}"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